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550D-03D2-4B84-A08F-51DBB566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3ACA-24D5-4DFC-9CF1-DE71B326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EC7-8658-47CF-BEAC-3B06066B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ABC-94C0-4176-82C0-568CD324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253-9DC6-48F1-A480-C560124C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214-1191-4215-B17A-AC6F2CEA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BC7-231B-42A0-88AB-BC64A6D5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B5D-57CE-4DE5-9FDF-F0E2F442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6E2-9708-4D25-BE0D-0CA0B7D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DCA-1206-4BE9-A087-3946CA85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1C9-BE6C-4AF8-9729-2992CB39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931-080E-404D-9A77-88888CA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F8D-2B34-4E1D-9D43-E95A01F4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27B-F61E-434B-A5BE-9322935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693C-9190-4575-8E22-B0D47B07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mie Me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mie Medin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362320" y="1523880"/>
            <a:ext cx="601956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90920" y="1905120"/>
            <a:ext cx="4343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5909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156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es Jamie.  Yo vivo en Woodside, New York.  Tengo 14 años.  Tengo dos hermanos. Yo soy feliz!!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498760" y="2664000"/>
            <a:ext cx="592200" cy="768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571840" y="396252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3276720" y="39625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puedo ir a mi casa.  ¿Por que usted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3276720" y="32767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Jam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@Amina Muy bien! Gracias. Nosotras tenemos k estudiar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:   1 hour ago   Octubre 21, de 2011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498760" y="46450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3276720" y="25909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Rham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 : Commentario:      5 sceonds ago.     Octubre 21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3276720" y="4648320"/>
            <a:ext cx="48765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. Yo no puedo.  Yo estoy patinando.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3276720" y="5334120"/>
            <a:ext cx="4876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tardes Yo soy muy bien @Jamie! ¿Y tu? Yo no puedo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24987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3276720" y="6019920"/>
            <a:ext cx="4876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43434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noches ¿cómo estas? @Amina y @ Carmela ¿Quieres ir a mi cas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1 hour ago.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3276720" y="1905120"/>
            <a:ext cx="373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¿Como estas amigas y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919440" y="601992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Photo on 12-3-12 at 9.46 AM.jpg"/>
          <p:cNvPicPr/>
          <p:nvPr/>
        </p:nvPicPr>
        <p:blipFill>
          <a:blip r:embed="rId9"/>
          <a:stretch/>
        </p:blipFill>
        <p:spPr>
          <a:xfrm>
            <a:off x="2514600" y="3352680"/>
            <a:ext cx="539640" cy="3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Photo on 2011-10-21 at 13.53 #2.jpg"/>
          <p:cNvPicPr/>
          <p:nvPr/>
        </p:nvPicPr>
        <p:blipFill>
          <a:blip r:embed="rId10"/>
          <a:stretch/>
        </p:blipFill>
        <p:spPr>
          <a:xfrm>
            <a:off x="133200" y="1139760"/>
            <a:ext cx="1762200" cy="230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Photo on 12-3-12 at 9.46 AM.jpg"/>
          <p:cNvPicPr/>
          <p:nvPr/>
        </p:nvPicPr>
        <p:blipFill>
          <a:blip r:embed="rId11"/>
          <a:stretch/>
        </p:blipFill>
        <p:spPr>
          <a:xfrm>
            <a:off x="2514600" y="5334120"/>
            <a:ext cx="57780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Photo on 12-3-12 at 9.46 AM.jpg"/>
          <p:cNvPicPr/>
          <p:nvPr/>
        </p:nvPicPr>
        <p:blipFill>
          <a:blip r:embed="rId12"/>
          <a:stretch/>
        </p:blipFill>
        <p:spPr>
          <a:xfrm>
            <a:off x="914400" y="5638680"/>
            <a:ext cx="5396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04Z</dcterms:modified>
  <cp:revision>111</cp:revision>
  <dc:subject/>
  <dc:title>Profile</dc:title>
</cp:coreProperties>
</file>